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04A3-275B-40AA-80F2-50F689FAD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B6B5-5AC6-40A7-BDD6-C0E110830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0 min</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E23B-74A1-47A8-977E-33F94B08E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0 min</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8917-CE61-41C2-9141-F08839670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icky note feedback – 15 min</a:t>
            </a: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9441-A43F-4E3C-813F-F7071C099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8299-97EA-426C-83E4-34CDFC188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B5EA-D9CF-47FF-A064-F0036B269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12A5-3851-4D9F-9ECA-3A333307E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less than 5 min</a:t>
            </a: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4806-0464-4C11-A213-E90686E70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utes for triad, 10 min for whole group</a:t>
            </a: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509D-ECE0-4029-BCD1-0761E27DA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plete BLM QR.1.3</a:t>
            </a: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5C7A-1ED1-4FCB-9241-7396C88C4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llowed by creation of whole group Frayer Model on large chart paper.  10-15 min for that part.</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5D75-5FAE-4320-AF79-8AF8592DE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246F-F121-469B-9A5E-79BB1EAB5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36BF2-6AF4-4463-A25C-3F2B1B152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C76B3-8E96-418C-B020-B90A8093A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77A70-BA41-4D94-8A82-4813208FB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C18FD-3C93-4815-BCCA-45AAEC713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28603-6670-41AC-A5ED-B97DE2234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5050E-60A3-48E4-9A2F-CE2F3A565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C1771-7753-4860-9601-18A7B8BD2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9B94B-E483-460A-9733-9584184CF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D6619-E317-4DF0-A5B8-0B7593A26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E7593-09AA-4F82-83E9-9B3E2ABF0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A0825-5A9F-45A2-B5FF-AC7ED139E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9FB5-25E2-4908-8CCA-63FF5A2BA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B2C94-0599-4A9E-BEE0-6611CDEE0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91224-8C3D-4255-A3C9-10E2E0214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2AFC6-B24D-4D58-B18D-6961CAFA3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730EF-947B-4B87-B45D-26FF5A2DB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AC408-09DC-4262-A851-C5BE780FBE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53EC4-9053-4C3A-B742-30E16EE9B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A3E7C-0F1D-42E2-BAAB-C53922BE7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BAC33-2AA8-40E4-96A9-E7BD1B44C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7331C-30D1-4B40-8CA7-47DE1B643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9EC3-BC7F-4D74-B5B7-B8ABBE98A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D5FDA-A273-42DA-97D8-20AB69ED6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00D85-BCED-4208-B09F-D226D1B15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B6D6-8CAC-438E-A5D0-D24A11F9C52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03C0-D8D2-42F5-916C-B66BC84F859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Travelling Up the </a:t>
            </a:r>
            <a:br>
              <a:rPr sz="4800"/>
            </a:br>
            <a:r>
              <a:rPr b="0" lang="en-US" sz="4800" spc="-1" strike="noStrike">
                <a:solidFill>
                  <a:srgbClr val="0d469b"/>
                </a:solidFill>
                <a:latin typeface="Book Antiqua"/>
              </a:rPr>
              <a:t>Learning Cur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Connecting to the BI</a:t>
            </a:r>
            <a:endParaRPr b="0" lang="en-US" sz="4400" spc="-1" strike="noStrike">
              <a:solidFill>
                <a:srgbClr val="0d469b"/>
              </a:solidFill>
              <a:latin typeface="Arial"/>
            </a:endParaRPr>
          </a:p>
        </p:txBody>
      </p:sp>
      <p:sp>
        <p:nvSpPr>
          <p:cNvPr id="110"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ell do the big ideas encompass the expecta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d you think any of the expectations fit under more than 1 big idea?</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concepts develop over the grad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other characteristics did you notice about your cluster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re anything that we can now add to /remove from our group Frayer mode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Lesson Goals</a:t>
            </a:r>
            <a:endParaRPr b="0" lang="en-US" sz="4400" spc="-1" strike="noStrike">
              <a:solidFill>
                <a:srgbClr val="0d469b"/>
              </a:solidFill>
              <a:latin typeface="Arial"/>
            </a:endParaRPr>
          </a:p>
        </p:txBody>
      </p:sp>
      <p:sp>
        <p:nvSpPr>
          <p:cNvPr id="11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need a quote here – why a good lesson goal important?&gt;&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one cluster of expectations and write a lesson goal based on that top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your lesson goal on a large piece of paper and post near the expectation clu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Gallery Walk</a:t>
            </a:r>
            <a:r>
              <a:rPr b="0" lang="en-CA" sz="4400" spc="-1" strike="noStrike">
                <a:solidFill>
                  <a:srgbClr val="0d469b"/>
                </a:solidFill>
                <a:latin typeface="Arial"/>
              </a:rPr>
              <a:t>	</a:t>
            </a:r>
            <a:endParaRPr b="0" lang="en-US" sz="4400" spc="-1" strike="noStrike">
              <a:solidFill>
                <a:srgbClr val="0d469b"/>
              </a:solidFill>
              <a:latin typeface="Arial"/>
            </a:endParaRPr>
          </a:p>
        </p:txBody>
      </p:sp>
      <p:sp>
        <p:nvSpPr>
          <p:cNvPr id="11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ing the sticky notes, provide feedback to your colleagues on their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me guiding question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How would you assess student achievement of the lesson goal?</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ithin the stated goal, can you think of a variety of ways for students to reach and/or demonstrate their understand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357120" y="1571760"/>
            <a:ext cx="8358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How did</a:t>
            </a:r>
            <a:r>
              <a:rPr b="0" lang="en-CA" sz="4800" spc="-1" strike="noStrike">
                <a:solidFill>
                  <a:srgbClr val="990099"/>
                </a:solidFill>
                <a:latin typeface="Garamond"/>
              </a:rPr>
              <a:t>	</a:t>
            </a:r>
            <a:r>
              <a:rPr b="0" lang="en-CA" sz="4800" spc="-1" strike="noStrike">
                <a:solidFill>
                  <a:srgbClr val="990099"/>
                </a:solidFill>
                <a:latin typeface="Garamond"/>
              </a:rPr>
              <a:t>Why did</a:t>
            </a:r>
            <a:r>
              <a:rPr b="0" lang="en-CA" sz="4800" spc="-1" strike="noStrike">
                <a:solidFill>
                  <a:srgbClr val="990099"/>
                </a:solidFill>
                <a:latin typeface="Garamond"/>
              </a:rPr>
              <a:t>	</a:t>
            </a:r>
            <a:r>
              <a:rPr b="0" lang="en-CA" sz="4800" spc="-1" strike="noStrike">
                <a:solidFill>
                  <a:srgbClr val="990099"/>
                </a:solidFill>
                <a:latin typeface="Garamond"/>
              </a:rPr>
              <a:t>Did</a:t>
            </a: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lesson goal?</a:t>
            </a:r>
            <a:r>
              <a:rPr b="0" lang="en-CA" sz="4800" spc="-1" strike="noStrike">
                <a:solidFill>
                  <a:srgbClr val="990099"/>
                </a:solidFill>
                <a:latin typeface="Garamond"/>
              </a:rPr>
              <a:t>	</a:t>
            </a: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a:t>
            </a:r>
            <a:endParaRPr b="0" lang="en-US" sz="4400" spc="-1" strike="noStrike">
              <a:solidFill>
                <a:srgbClr val="0d469b"/>
              </a:solidFill>
              <a:latin typeface="Arial"/>
            </a:endParaRPr>
          </a:p>
        </p:txBody>
      </p:sp>
      <p:sp>
        <p:nvSpPr>
          <p:cNvPr id="11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need to insert graphic he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gin to build a collaborative learning community</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n understanding of the big ideas for quadratic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tablish connections between the big ideas, the curriculum, and lesson goal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made so that all students develop deeper understandings of the big ideas of mathematics, and their connection to the real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Quadratic Card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one of you has a card with one of three models on it: graph, table of values, factored eq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your triad by matching the quadratic function represented on your c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selves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ve to the table that has the corresponding algebra tile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Meeting the Triad</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individually, two truths and on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three statements to your group mates.  They have to guess which one is th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 group to the larger group and share one truth/lie.  The rest of us will try to guess who wrot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Anticipation Guide</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insert guide here&gt;&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Frayer Model</a:t>
            </a:r>
            <a:endParaRPr b="0" lang="en-US" sz="44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insert Frayer Model he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for Algebraic Reasoning</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gebraic reasoning is a process of describing and analyzing (e.g., predicting) generalized mathematical relationships and change using words and symbols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ing mathematical relationships helps us see that there are classes of relationships and provides insight into each member of the clas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fferent representations of relationships (e.g., numeric, graphic, geometric, algebraic, verbal, concrete/pictorial) highlight different characteristics or behaviours, and can serve different purpose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mited information about a mathematical relationship can sometimes, but not always, allow us to predict other information about that relationship.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of Quadratics</a:t>
            </a:r>
            <a:endParaRPr b="0" lang="en-US" sz="44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raphical, algebraic, numerical, geometric or verbal representation of a quadratic function reveals different information about the concrete/pictorial representation of the quadratic.</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ation of the geometric representation allows understanding of the predictable affect of parameters on the function.  (something about transformations and combining function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Examining the Expectations</a:t>
            </a:r>
            <a:endParaRPr b="0" lang="en-US" sz="4400" spc="-1" strike="noStrike">
              <a:solidFill>
                <a:srgbClr val="0d469b"/>
              </a:solidFill>
              <a:latin typeface="Arial"/>
            </a:endParaRPr>
          </a:p>
        </p:txBody>
      </p:sp>
      <p:sp>
        <p:nvSpPr>
          <p:cNvPr id="10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according to course: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pplied</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University</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University</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rt the expectations according to the big ideas and post on the corresponding chart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09-07-19T17:37:34Z</dcterms:modified>
  <cp:revision>108</cp:revision>
  <dc:subject/>
  <dc:title>Slide 1</dc:title>
</cp:coreProperties>
</file>